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4.jpeg" ContentType="image/jpeg"/>
  <Override PartName="/ppt/media/image6.jpeg" ContentType="image/jpeg"/>
  <Override PartName="/ppt/media/image8.png" ContentType="image/png"/>
  <Override PartName="/ppt/media/image7.pct" ContentType="image/x-pict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4F9-A449-48F8-96DA-F036810A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276-D1A2-43F6-89A1-F7D55522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9B8-F8E7-4A2C-9403-6A58D945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8FD-E6FA-4A20-8D17-80837956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D49-A52C-4434-A29C-9A0974B7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07E-67F7-47A2-8A77-CC37BF2A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6ED-CF59-4DEF-9006-0DF4E3ED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2C9-A290-4EF7-AC5F-4E22C577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BFD-51B2-4697-A7FB-D19E7354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3C1-5FDD-4B3C-826A-D1820236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4A7-A4A1-4B3A-A9D9-98D1854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2E0-3F72-48A5-A6C8-2A466443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592A-EAA6-48BE-A027-DF0CBB605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es in Biomedicine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the “right” amount of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A. Mu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71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rtion of the OBO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imensions for characterizing 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vs.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FMA vs. SOFG Anatomy Entry 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oad vs. D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UMLS Semantic Network vs. CY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” vs. He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Gene Ontology vs. F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ndamental parado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and other ontologies became popular because they assumed a simple semantics that required little of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ck of rich semantics has enabled errors to creep into ontologies such as GO and the meaning of terms and relations to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ntology developers are now turning to rich representation formalisms (e.g., OWL) to overcome these problems—but are they shooting themselves in the foot by doing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1138320"/>
            <a:ext cx="7315200" cy="5719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 is elegant in its simplici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54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1731960" y="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are clear advantages to having richer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distinguished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istopher Ch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fessor and Chair, Department of Medical Informatics, the Mayo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zanna Lew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nior Staff Scientist, Lawrence Berkeley Nationa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fessor of Philosophy, University at Buf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the “right” amount of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972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ional Center for Biomedic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ree National Centers for Biomedical Computing launched by NIH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of Stanford, Berkeley, Mayo, Buffalo, Victoria, UCSF, Oregon, and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goal is to make ontologies accessible and 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will develop technologies for ontology indexing, alignment, and 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1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evelop an Ont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ructure of descriptiv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software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eople an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omai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“re-inventing the whe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troduce standards to allow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1520" y="1676520"/>
            <a:ext cx="59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preme genu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880" y="2529000"/>
            <a:ext cx="74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bordin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PI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490680" y="207180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teri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im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469080" y="29098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nimat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inan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531360" y="367200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ensitiv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in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5840" y="329076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bordin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IVING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4320" y="412920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Proxim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IM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600" y="496728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pecie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UMAN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464760" y="4510080"/>
            <a:ext cx="79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ation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ir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687960" y="6186600"/>
            <a:ext cx="88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Individual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crates       Plato      Aristotl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962160" y="1981080"/>
            <a:ext cx="5331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263200" y="19602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658560" y="23490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134320" y="28062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658560" y="311112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058360" y="356832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658560" y="39492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058360" y="44064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506640" y="4787280"/>
            <a:ext cx="47448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132520" y="5243040"/>
            <a:ext cx="1632600" cy="103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828680" y="5243040"/>
            <a:ext cx="96912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545000" y="5247360"/>
            <a:ext cx="155520" cy="101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64800" y="5243760"/>
            <a:ext cx="706320" cy="108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991320" y="23490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915360" y="3187080"/>
            <a:ext cx="474840" cy="25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762720" y="39492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763440" y="4787280"/>
            <a:ext cx="47448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86200" y="281952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86200" y="358128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09880" y="441972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phyry’s depiction of Aristotle’s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690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mall Portion of ICD9-C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41480"/>
            <a:ext cx="693432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pecified disorders of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other than cerv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unspecified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thoracic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lumbar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 in thoracic s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b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racic or lumbosacral neur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ache, un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ders of sac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ders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pecified disorder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ermobility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ccygody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symptoms referable to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unspecified back dis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undational Model of Anat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1095480"/>
            <a:ext cx="975384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-720" y="-76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CI Thesaurus in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757080"/>
            <a:ext cx="731520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5:04:01Z</dcterms:created>
  <dc:creator>Mark Musen</dc:creator>
  <dc:description/>
  <dc:language>en-US</dc:language>
  <cp:lastModifiedBy>Mark Musen</cp:lastModifiedBy>
  <dcterms:modified xsi:type="dcterms:W3CDTF">2005-10-26T13:34:09Z</dcterms:modified>
  <cp:revision>50</cp:revision>
  <dc:subject/>
  <dc:title>Ontologies in Biomedicine AMIA Tutorial 25 October 23, 2005</dc:title>
</cp:coreProperties>
</file>